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92CE-72DA-4C3D-8F62-99E2DC8F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5F3-D98F-4EA5-BE09-596546B7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F77-87E8-4DF8-9B1E-5B6969C3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B315-5F59-4BDE-9AF7-801FB028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317-3584-40F4-AF38-68D307C4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761-C78C-473C-A72A-21EDF3FF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C5B8-2137-43B6-89D6-E988F0B3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AA2A-1535-471B-800E-F518A47D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9112-C8A9-40A7-88B6-4000AB66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B65-D0FC-46BF-B347-E2A9D36F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6A40-F659-4543-AB1C-CB4F8192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1AC7-D73E-4FA1-92F8-214185DA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BCF8-BCF8-46B1-8EE6-6764466319A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07 Sobotný deň sa lúči z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obotný deň sa lúči z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torom nás Pánov lásky hla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živých vôd viedol prameň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ich slov chlebom sýtil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ňom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mu, čo nám dal tento dar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nesme obeť na oltár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siedmich dňoch týždňa novéh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váľme ho, žime pre ne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vzácny sľub nám zanech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pre nás príde ako Kráľ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obotný deň navždy s ní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deme sláviť s nadšení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3:54:43Z</dcterms:modified>
  <cp:revision>11</cp:revision>
  <dc:subject/>
  <dc:title>Je veľký náš Pán, on slávy je Kráľ Nech do všetkých strán  spev vrúcnych znie chvál.</dc:title>
</cp:coreProperties>
</file>